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9C0-9F95-4457-B28F-96A10B5A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53F-068E-41BC-B1A3-EB0C1F01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FA5-2670-42B9-9E6B-DEA8B787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A54-28CD-4330-A29E-9527D011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429D-3A91-4AC1-A1A8-E64F1649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2719-1E1B-4FEF-8768-6F242503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43D5-42B1-44A3-8DFD-31443033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448-E745-494D-9CA3-116F5CE9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BE4F-225F-422B-BDDD-EF030D16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3ABB-F9AE-41CB-9E34-63EC196B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F1EC-A243-428E-8752-EFC07925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9C2-4294-46EA-A155-ACC74A25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FA3C-4C5A-486A-97FB-D97F476D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EE52-D09C-45BB-893E-4D3775F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44B0-0F33-4770-9981-BC403946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78E6-4D85-4434-B312-D0C93C1C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F931-663C-49D7-9F03-2926E4A0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010-4F34-4C56-9C92-FDB36DF9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21C-5079-4EE4-B0F1-2F3B2F7A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CC2-0F16-486E-8CD0-0401068B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E40-D57B-46B8-B18B-B5BBEB2C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971-BC2A-426A-BE9D-774D2804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7AF-4B53-4D55-8AB4-CCF34369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3D3-34FD-4AA8-A583-81F17253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C20D-24D7-46F4-85A8-260423B0B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6341-1B45-4CA5-AF3F-5152939FD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лгоритм создания электронные образовательные ресурс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24000" y="5013000"/>
            <a:ext cx="2738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увьюрова Тать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16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7.Юридический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гистрация и сертификация ЭУП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3611520" cy="240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609300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8.Поддержк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ическая и методическая поддерж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точн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снянский М.Н., Радченко И.М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 педагогического дизайна и создания мультимедийных обучающих аудио/видео материалов. – Тамбов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ура В.В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етические основы педагогического проектирования личностно-ориентированных электронных образовательных ресурсов и сред. Ростов н/Д: Изд-во Южного федерального ун-та, 2007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ляев М.И., Гриншкун В.В., Краснова Г.А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я создания электронных средств обучения //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http://www.twirpx.com/file/354883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6021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10800"/>
                </a:moveTo>
                <a:lnTo>
                  <a:pt x="34081" y="3794"/>
                </a:lnTo>
                <a:lnTo>
                  <a:pt x="3408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38228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68360" y="476280"/>
            <a:ext cx="8137080" cy="3465360"/>
            <a:chOff x="468360" y="476280"/>
            <a:chExt cx="8137080" cy="3465360"/>
          </a:xfrm>
        </p:grpSpPr>
        <p:cxnSp>
          <p:nvCxnSpPr>
            <p:cNvPr id="86" name="_s3111"/>
            <p:cNvCxnSpPr>
              <a:stCxn id="87" idx="0"/>
              <a:endCxn id="88" idx="2"/>
            </p:cNvCxnSpPr>
            <p:nvPr/>
          </p:nvCxnSpPr>
          <p:spPr>
            <a:xfrm flipV="1" rot="16200000">
              <a:off x="4125240" y="1995480"/>
              <a:ext cx="1756080" cy="13068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3109"/>
            <p:cNvCxnSpPr>
              <a:stCxn id="90" idx="0"/>
              <a:endCxn id="88" idx="2"/>
            </p:cNvCxnSpPr>
            <p:nvPr/>
          </p:nvCxnSpPr>
          <p:spPr>
            <a:xfrm flipV="1" rot="16200000">
              <a:off x="4641840" y="1479600"/>
              <a:ext cx="1756080" cy="116244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3107"/>
            <p:cNvCxnSpPr>
              <a:stCxn id="92" idx="0"/>
              <a:endCxn id="88" idx="2"/>
            </p:cNvCxnSpPr>
            <p:nvPr/>
          </p:nvCxnSpPr>
          <p:spPr>
            <a:xfrm flipV="1" rot="16200000">
              <a:off x="5157000" y="963720"/>
              <a:ext cx="1756080" cy="21942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3105"/>
            <p:cNvCxnSpPr>
              <a:stCxn id="94" idx="0"/>
              <a:endCxn id="88" idx="2"/>
            </p:cNvCxnSpPr>
            <p:nvPr/>
          </p:nvCxnSpPr>
          <p:spPr>
            <a:xfrm flipV="1" rot="16200000">
              <a:off x="5673240" y="447480"/>
              <a:ext cx="1756080" cy="322668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3103"/>
            <p:cNvCxnSpPr>
              <a:stCxn id="96" idx="0"/>
              <a:endCxn id="88" idx="2"/>
            </p:cNvCxnSpPr>
            <p:nvPr/>
          </p:nvCxnSpPr>
          <p:spPr>
            <a:xfrm flipH="1" flipV="1" rot="5400000">
              <a:off x="3610080" y="1610640"/>
              <a:ext cx="1756080" cy="90072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3084"/>
            <p:cNvCxnSpPr>
              <a:stCxn id="98" idx="0"/>
              <a:endCxn id="88" idx="2"/>
            </p:cNvCxnSpPr>
            <p:nvPr/>
          </p:nvCxnSpPr>
          <p:spPr>
            <a:xfrm flipH="1" flipV="1" rot="5400000">
              <a:off x="3085560" y="1086120"/>
              <a:ext cx="1756080" cy="19494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3083"/>
            <p:cNvCxnSpPr>
              <a:stCxn id="100" idx="0"/>
              <a:endCxn id="88" idx="2"/>
            </p:cNvCxnSpPr>
            <p:nvPr/>
          </p:nvCxnSpPr>
          <p:spPr>
            <a:xfrm flipH="1" flipV="1" rot="5400000">
              <a:off x="2561760" y="562320"/>
              <a:ext cx="1756080" cy="29970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3082"/>
            <p:cNvCxnSpPr>
              <a:stCxn id="102" idx="0"/>
              <a:endCxn id="88" idx="2"/>
            </p:cNvCxnSpPr>
            <p:nvPr/>
          </p:nvCxnSpPr>
          <p:spPr>
            <a:xfrm flipH="1" flipV="1" rot="5400000">
              <a:off x="2046240" y="46800"/>
              <a:ext cx="1756080" cy="40284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" name="_s3078"/>
            <p:cNvSpPr/>
            <p:nvPr/>
          </p:nvSpPr>
          <p:spPr>
            <a:xfrm>
              <a:off x="4066920" y="476280"/>
              <a:ext cx="1743120" cy="707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5ffff"/>
                  </a:solidFill>
                  <a:latin typeface="Tahoma"/>
                </a:rPr>
                <a:t>Этапы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079"/>
            <p:cNvSpPr/>
            <p:nvPr/>
          </p:nvSpPr>
          <p:spPr>
            <a:xfrm>
              <a:off x="468360" y="2938680"/>
              <a:ext cx="884520" cy="91764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917640"/>
                <a:gd name="textAreaBottom" fmla="*/ 874800 h 917640"/>
              </a:gdLst>
              <a:ahLst/>
              <a:rect l="textAreaLeft" t="textAreaTop" r="textAreaRight" b="textAreaBottom"/>
              <a:pathLst>
                <a:path w="21600" h="22408">
                  <a:moveTo>
                    <a:pt x="3600" y="0"/>
                  </a:moveTo>
                  <a:arcTo wR="3600" hR="3600" stAng="16200000" swAng="-5400000"/>
                  <a:lnTo>
                    <a:pt x="0" y="18808"/>
                  </a:lnTo>
                  <a:arcTo wR="3600" hR="3600" stAng="10800000" swAng="-5400000"/>
                  <a:lnTo>
                    <a:pt x="18000" y="224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1.Предварительная работа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080"/>
            <p:cNvSpPr/>
            <p:nvPr/>
          </p:nvSpPr>
          <p:spPr>
            <a:xfrm>
              <a:off x="1500480" y="2938680"/>
              <a:ext cx="881280" cy="986040"/>
            </a:xfrm>
            <a:custGeom>
              <a:avLst/>
              <a:gdLst>
                <a:gd name="textAreaLeft" fmla="*/ 42840 w 881280"/>
                <a:gd name="textAreaRight" fmla="*/ 838440 w 881280"/>
                <a:gd name="textAreaTop" fmla="*/ 42840 h 986040"/>
                <a:gd name="textAreaBottom" fmla="*/ 943200 h 986040"/>
              </a:gdLst>
              <a:ahLst/>
              <a:rect l="textAreaLeft" t="textAreaTop" r="textAreaRight" b="textAreaBottom"/>
              <a:pathLst>
                <a:path w="21600" h="24167">
                  <a:moveTo>
                    <a:pt x="3600" y="0"/>
                  </a:moveTo>
                  <a:arcTo wR="3600" hR="3600" stAng="16200000" swAng="-5400000"/>
                  <a:lnTo>
                    <a:pt x="0" y="20567"/>
                  </a:lnTo>
                  <a:arcTo wR="3600" hR="3600" stAng="10800000" swAng="-5400000"/>
                  <a:lnTo>
                    <a:pt x="18000" y="24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2.Сбор необходимой информации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3081"/>
            <p:cNvSpPr/>
            <p:nvPr/>
          </p:nvSpPr>
          <p:spPr>
            <a:xfrm>
              <a:off x="2529720" y="2938680"/>
              <a:ext cx="917640" cy="986040"/>
            </a:xfrm>
            <a:custGeom>
              <a:avLst/>
              <a:gdLst>
                <a:gd name="textAreaLeft" fmla="*/ 44640 w 917640"/>
                <a:gd name="textAreaRight" fmla="*/ 873000 w 917640"/>
                <a:gd name="textAreaTop" fmla="*/ 44640 h 986040"/>
                <a:gd name="textAreaBottom" fmla="*/ 941400 h 986040"/>
              </a:gdLst>
              <a:ahLst/>
              <a:rect l="textAreaLeft" t="textAreaTop" r="textAreaRight" b="textAreaBottom"/>
              <a:pathLst>
                <a:path w="21600" h="23209">
                  <a:moveTo>
                    <a:pt x="3600" y="0"/>
                  </a:moveTo>
                  <a:arcTo wR="3600" hR="3600" stAng="16200000" swAng="-5400000"/>
                  <a:lnTo>
                    <a:pt x="0" y="19609"/>
                  </a:lnTo>
                  <a:arcTo wR="3600" hR="3600" stAng="10800000" swAng="-5400000"/>
                  <a:lnTo>
                    <a:pt x="18000" y="232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3.Подготовка содержания</a:t>
              </a:r>
              <a:r>
                <a:rPr b="0" lang="en-US" sz="1000" spc="-1" strike="noStrike" u="sng">
                  <a:solidFill>
                    <a:srgbClr val="ffffff"/>
                  </a:solidFill>
                  <a:uFillTx/>
                  <a:latin typeface="Tahoma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3102"/>
            <p:cNvSpPr/>
            <p:nvPr/>
          </p:nvSpPr>
          <p:spPr>
            <a:xfrm>
              <a:off x="3594960" y="2938680"/>
              <a:ext cx="884520" cy="100296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491">
                  <a:moveTo>
                    <a:pt x="3600" y="0"/>
                  </a:moveTo>
                  <a:arcTo wR="3600" hR="3600" stAng="16200000" swAng="-5400000"/>
                  <a:lnTo>
                    <a:pt x="0" y="20891"/>
                  </a:lnTo>
                  <a:arcTo wR="3600" hR="3600" stAng="10800000" swAng="-5400000"/>
                  <a:lnTo>
                    <a:pt x="18000" y="24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4.Дизайн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3104"/>
            <p:cNvSpPr/>
            <p:nvPr/>
          </p:nvSpPr>
          <p:spPr>
            <a:xfrm>
              <a:off x="7722000" y="2938680"/>
              <a:ext cx="883440" cy="1002960"/>
            </a:xfrm>
            <a:custGeom>
              <a:avLst/>
              <a:gdLst>
                <a:gd name="textAreaLeft" fmla="*/ 42840 w 883440"/>
                <a:gd name="textAreaRight" fmla="*/ 840600 w 88344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21">
                  <a:moveTo>
                    <a:pt x="3600" y="0"/>
                  </a:moveTo>
                  <a:arcTo wR="3600" hR="3600" stAng="16200000" swAng="-5400000"/>
                  <a:lnTo>
                    <a:pt x="0" y="20921"/>
                  </a:lnTo>
                  <a:arcTo wR="3600" hR="3600" stAng="10800000" swAng="-5400000"/>
                  <a:lnTo>
                    <a:pt x="18000" y="245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8.Поддержка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106"/>
            <p:cNvSpPr/>
            <p:nvPr/>
          </p:nvSpPr>
          <p:spPr>
            <a:xfrm>
              <a:off x="6689880" y="2938680"/>
              <a:ext cx="884520" cy="100296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491">
                  <a:moveTo>
                    <a:pt x="3600" y="0"/>
                  </a:moveTo>
                  <a:arcTo wR="3600" hR="3600" stAng="16200000" swAng="-5400000"/>
                  <a:lnTo>
                    <a:pt x="0" y="20891"/>
                  </a:lnTo>
                  <a:arcTo wR="3600" hR="3600" stAng="10800000" swAng="-5400000"/>
                  <a:lnTo>
                    <a:pt x="18000" y="24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7.Юридический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3108"/>
            <p:cNvSpPr/>
            <p:nvPr/>
          </p:nvSpPr>
          <p:spPr>
            <a:xfrm>
              <a:off x="5658480" y="2938680"/>
              <a:ext cx="883800" cy="1002960"/>
            </a:xfrm>
            <a:custGeom>
              <a:avLst/>
              <a:gdLst>
                <a:gd name="textAreaLeft" fmla="*/ 42840 w 883800"/>
                <a:gd name="textAreaRight" fmla="*/ 840960 w 88380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11">
                  <a:moveTo>
                    <a:pt x="3600" y="0"/>
                  </a:moveTo>
                  <a:arcTo wR="3600" hR="3600" stAng="16200000" swAng="-5400000"/>
                  <a:lnTo>
                    <a:pt x="0" y="20911"/>
                  </a:lnTo>
                  <a:arcTo wR="3600" hR="3600" stAng="10800000" swAng="-5400000"/>
                  <a:lnTo>
                    <a:pt x="18000" y="245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6.Тестирование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3110"/>
            <p:cNvSpPr/>
            <p:nvPr/>
          </p:nvSpPr>
          <p:spPr>
            <a:xfrm>
              <a:off x="4627080" y="2938680"/>
              <a:ext cx="883440" cy="1002960"/>
            </a:xfrm>
            <a:custGeom>
              <a:avLst/>
              <a:gdLst>
                <a:gd name="textAreaLeft" fmla="*/ 42840 w 883440"/>
                <a:gd name="textAreaRight" fmla="*/ 840600 w 88344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21">
                  <a:moveTo>
                    <a:pt x="3600" y="0"/>
                  </a:moveTo>
                  <a:arcTo wR="3600" hR="3600" stAng="16200000" swAng="-5400000"/>
                  <a:lnTo>
                    <a:pt x="0" y="20921"/>
                  </a:lnTo>
                  <a:arcTo wR="3600" hR="3600" stAng="10800000" swAng="-5400000"/>
                  <a:lnTo>
                    <a:pt x="18000" y="245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5.Производство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971640" y="54936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4140360" y="472428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87640" y="5950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т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.Предварительная работ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улировка исходной идей. Оформление документации на ЭУП. Оценка существующих элементов. Составление перечня необходимых и наличествующих специалис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2759040" cy="183996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826920" y="5877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.Сбор необходимой информац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ализ потребностей. Выделение главной дидактической цели. Обоснование необходимости и того нового, что внесет продук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3154320" cy="20829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1042920" y="6093000"/>
            <a:ext cx="719280" cy="215640"/>
          </a:xfrm>
          <a:custGeom>
            <a:avLst/>
            <a:gdLst>
              <a:gd name="textAreaLeft" fmla="*/ 13680 w 719280"/>
              <a:gd name="textAreaRight" fmla="*/ 705600 w 71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1964" h="21600">
                <a:moveTo>
                  <a:pt x="0" y="0"/>
                </a:moveTo>
                <a:lnTo>
                  <a:pt x="71964" y="0"/>
                </a:lnTo>
                <a:lnTo>
                  <a:pt x="71964" y="21600"/>
                </a:lnTo>
                <a:lnTo>
                  <a:pt x="0" y="21600"/>
                </a:lnTo>
                <a:close/>
              </a:path>
              <a:path fill="lightenLess" w="71964" h="21600">
                <a:moveTo>
                  <a:pt x="0" y="0"/>
                </a:moveTo>
                <a:lnTo>
                  <a:pt x="71964" y="0"/>
                </a:lnTo>
                <a:lnTo>
                  <a:pt x="70564" y="1400"/>
                </a:lnTo>
                <a:lnTo>
                  <a:pt x="1400" y="1400"/>
                </a:lnTo>
                <a:close/>
              </a:path>
              <a:path fill="darken" w="71964" h="21600">
                <a:moveTo>
                  <a:pt x="71964" y="0"/>
                </a:moveTo>
                <a:lnTo>
                  <a:pt x="71964" y="21600"/>
                </a:lnTo>
                <a:lnTo>
                  <a:pt x="70564" y="20200"/>
                </a:lnTo>
                <a:lnTo>
                  <a:pt x="70564" y="1400"/>
                </a:lnTo>
                <a:close/>
              </a:path>
              <a:path fill="darkenLess" w="71964" h="21600">
                <a:moveTo>
                  <a:pt x="71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64" y="20200"/>
                </a:lnTo>
                <a:close/>
              </a:path>
              <a:path fill="lighten" w="71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64" h="21600">
                <a:moveTo>
                  <a:pt x="28976" y="10800"/>
                </a:moveTo>
                <a:lnTo>
                  <a:pt x="42988" y="3794"/>
                </a:lnTo>
                <a:lnTo>
                  <a:pt x="4298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3.Подготовка содержания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деление дидактических подцелей. Составление плана. Представление содержания в форме моду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1812600" cy="27255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900000" y="623736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10800"/>
                </a:moveTo>
                <a:lnTo>
                  <a:pt x="50135" y="3794"/>
                </a:lnTo>
                <a:lnTo>
                  <a:pt x="5013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4.Дизайн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концепции. Выбор медиа (звук, изображения, видео). Написание сценария. Детальный дизайн + подключение интер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2106360" cy="168264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1042920" y="6165720"/>
            <a:ext cx="865080" cy="287640"/>
          </a:xfrm>
          <a:custGeom>
            <a:avLst/>
            <a:gdLst>
              <a:gd name="textAreaLeft" fmla="*/ 18360 w 865080"/>
              <a:gd name="textAreaRight" fmla="*/ 846720 w 8650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08" h="21600">
                <a:moveTo>
                  <a:pt x="25448" y="10800"/>
                </a:moveTo>
                <a:lnTo>
                  <a:pt x="39460" y="3794"/>
                </a:lnTo>
                <a:lnTo>
                  <a:pt x="3946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Мультимеди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хнологии мультимедиа позволяют осмысленно и гармонично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интегрироват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ногие виды информа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2922480"/>
            <a:ext cx="589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в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мпьютерная граф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е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5.Производств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граммирование и оцифровка содержания. Создание изображений, звука и т.п. Компоновка готовых материалов в модули. Наладка навигации по продукт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971640" y="616572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6.Тестирование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стирование и оценка проду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2347920" cy="2019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8:36:39Z</dcterms:created>
  <dc:creator>студент</dc:creator>
  <dc:description/>
  <dc:language>en-US</dc:language>
  <cp:lastModifiedBy>студент</cp:lastModifiedBy>
  <dcterms:modified xsi:type="dcterms:W3CDTF">2012-04-03T09:33:54Z</dcterms:modified>
  <cp:revision>2</cp:revision>
  <dc:subject/>
  <dc:title>Алгоритм создания электронные образовательные ресурсы</dc:title>
</cp:coreProperties>
</file>